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05FD-8CE7-4EF2-B9C8-6850209A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A9B-BB8B-4ABC-A6F3-4B80540F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82D8-2308-4A83-AD62-D9018896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ECD-BC84-4AB7-A295-3242FF7E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E63F-E6F9-4F6A-B89A-DB59B8C8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2090-6745-4396-8CE8-68F0FED4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1E2F-0F6C-420E-B83D-4D5F975B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6087-CEED-4159-98AD-31C21B93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6D1D-B1DB-4C7E-AA49-CB0CD808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06F1-AE74-4B40-A01F-D93E64E5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788C-B3F2-473E-8054-C2F4E3E8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285E-8F73-48C8-94CA-77FB8E45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7167-B46A-40C9-A5BE-DC59A1B0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F384-F16B-491C-9E94-664EAFA9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C855-B4AA-485A-9E6F-AF39540F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DB17-2FBD-4A07-AA69-4B20F3C1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4519-C9EE-49C5-ABDA-CEA1EC09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0557-746D-4B8A-AE23-8FC07B49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F50-1336-4486-B82F-6AA2E332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70F-9C83-4B01-A9EA-F3EDB62E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B74-AA9A-480B-B254-7F4ABFAD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AC4-84D3-488A-8590-00B3BD97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741-BB51-4F31-BBC3-1435B179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7B2F-4471-4C82-8A4C-6F262623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DF93-A6FF-488F-8300-22B72DEDA7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D536-D926-4F7A-BDD8-1FF064EEB8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CD-9-CM Coordination and Maintenance Committee</a:t>
            </a:r>
            <a:br>
              <a:rPr sz="4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ers for Medicare &amp; Medicaid Services</a:t>
            </a:r>
            <a:br>
              <a:rPr sz="28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-ventricular Replacement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tember 27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rtley P. Griffith, M.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ef Cardiac Surgery Director, Heart and Lung Transplan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ity of Maryland Medical Center (UMM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20231" r="0" b="0"/>
          <a:stretch/>
        </p:blipFill>
        <p:spPr>
          <a:xfrm>
            <a:off x="1676520" y="3446640"/>
            <a:ext cx="5181480" cy="3117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505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8242"/>
                </a:solidFill>
                <a:latin typeface="Arial"/>
              </a:rPr>
              <a:t>1985-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62920" y="62485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Dr. Griffit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210200" cy="5635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42160" y="6132600"/>
            <a:ext cx="207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73480" y="469800"/>
            <a:ext cx="4395600" cy="5916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918480" y="5904000"/>
            <a:ext cx="199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3865680" cy="5416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781680" y="6324480"/>
            <a:ext cx="214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392200" y="341280"/>
            <a:ext cx="4359600" cy="6175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18480" y="6361200"/>
            <a:ext cx="199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384960" y="6284880"/>
            <a:ext cx="24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Dr. Arusogl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699160" y="6056280"/>
            <a:ext cx="283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Dr. Arusogl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anted CardioWest TAH-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459320" cy="50626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375680" y="6132600"/>
            <a:ext cx="146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75680" y="6208560"/>
            <a:ext cx="131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00800" y="630720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entricular Assist Devic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(VAD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38862" t="1469" r="1709" b="4415"/>
          <a:stretch/>
        </p:blipFill>
        <p:spPr>
          <a:xfrm>
            <a:off x="533520" y="1600200"/>
            <a:ext cx="1981080" cy="4876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12859" t="1512" r="15535" b="1512"/>
          <a:stretch/>
        </p:blipFill>
        <p:spPr>
          <a:xfrm>
            <a:off x="2743200" y="1600200"/>
            <a:ext cx="2971800" cy="4876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32183" t="1512" r="1609" b="1512"/>
          <a:stretch/>
        </p:blipFill>
        <p:spPr>
          <a:xfrm>
            <a:off x="5943600" y="1600200"/>
            <a:ext cx="2743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562720" cy="5268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20120" y="601992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presentative Resected He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97000" y="1176480"/>
            <a:ext cx="6918480" cy="5271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90080" y="6002280"/>
            <a:ext cx="853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courtes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r. Cope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341960" cy="5483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0866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003560" cy="5124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613560" y="6132600"/>
            <a:ext cx="153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19920" y="6002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6883560" cy="4562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010280" y="6172200"/>
            <a:ext cx="19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4029120" cy="5694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918480" y="6056280"/>
            <a:ext cx="199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20:30:28Z</dcterms:created>
  <dc:creator>cmarcot</dc:creator>
  <dc:description/>
  <dc:language>en-US</dc:language>
  <cp:lastModifiedBy>cmarcot</cp:lastModifiedBy>
  <dcterms:modified xsi:type="dcterms:W3CDTF">2007-10-05T18:55:02Z</dcterms:modified>
  <cp:revision>10</cp:revision>
  <dc:subject/>
  <dc:title>Slide 1</dc:title>
</cp:coreProperties>
</file>